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FEF-B828-4803-99EA-9F1BB5EA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F2A-2F62-4B0B-A06E-BAD5C583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0BC-73B6-42A6-B511-CE992BDB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033-3923-4917-A6FD-998AE1E4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4A6-BE22-4361-B1F1-EC09BBDA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F1E-FE62-49DD-BBD3-15FA5022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E47-187C-4F5D-AABF-92123958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6B5-7432-4B01-BE74-DE917088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580-73C0-4FA1-B424-3B6F4A26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B77-2E4D-4643-B82A-5779D32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1BA-CC79-45D4-A5F8-D39562D0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054-B55D-4D37-A166-117D095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4980760"/>
            <a:ext cx="1158264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A5A202B1-0187-46DC-ABD7-2EDBFD208CC0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ct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36576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Chat: A Group Communication Service Over Wireless Sensor Netwo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i Sun, Chien-Liang Fok, Gruia-Catalin Ro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hington University in St. Lo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6212680"/>
            <a:ext cx="35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search was supported by the NSF under NOSS grant CNS-05202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9068040" cy="13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25450920" y="1676520"/>
          <a:ext cx="1106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50920" y="1676520"/>
                    <a:ext cx="1106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6669880" y="2514600"/>
            <a:ext cx="9753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w Cen MT"/>
              </a:rPr>
              <a:t>Mobile Computing Laborator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19720"/>
            <a:ext cx="10210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91320"/>
            <a:ext cx="1013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reless sensornets are more robust and less likely to fail in disaster scenar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y can serve as an alternative medium through whic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cuers can communic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4392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781000"/>
            <a:ext cx="84582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ensornet is initially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loyed for some oth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urpose (e.g., environmental monitoring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s (rescuers) must remain in contact with each other while continuously mov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ed 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bership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reliable wireless lin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460200" y="19159560"/>
            <a:ext cx="11430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oin - Member agents can join a specific group to exchange messages within the group.  A group is formed when the first member joins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ve -  A member agent can leave a specific group to stop sending or receiving messages within the group.  A group is disbanded when the last member leav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nd - Member agents can send messages that will be forwarded to all the other members in the same gro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79320" y="4343400"/>
            <a:ext cx="11658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15760" y="5622840"/>
            <a:ext cx="112935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mplement the group communication service on top of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Agilla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a mobile agent middleware for sensorne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ach user has a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memb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in the network that “follows” the user and handles communication between the user and the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56840" y="23012280"/>
            <a:ext cx="30826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456840" y="24231600"/>
            <a:ext cx="30826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75840" y="208630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23640" y="23106240"/>
            <a:ext cx="124920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539280" y="23106240"/>
            <a:ext cx="1333080" cy="563040"/>
            <a:chOff x="9539280" y="23106240"/>
            <a:chExt cx="1333080" cy="563040"/>
          </a:xfrm>
        </p:grpSpPr>
        <p:sp>
          <p:nvSpPr>
            <p:cNvPr id="59" name=""/>
            <p:cNvSpPr/>
            <p:nvPr/>
          </p:nvSpPr>
          <p:spPr>
            <a:xfrm>
              <a:off x="9539280" y="23106240"/>
              <a:ext cx="133308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23880" y="23207760"/>
              <a:ext cx="9928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372600" y="21231360"/>
            <a:ext cx="325116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78040" y="2377440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456840" y="24793560"/>
            <a:ext cx="30826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45900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706120" y="21699360"/>
            <a:ext cx="833040" cy="1312560"/>
            <a:chOff x="11706120" y="21699360"/>
            <a:chExt cx="833040" cy="1312560"/>
          </a:xfrm>
        </p:grpSpPr>
        <p:sp>
          <p:nvSpPr>
            <p:cNvPr id="66" name=""/>
            <p:cNvSpPr/>
            <p:nvPr/>
          </p:nvSpPr>
          <p:spPr>
            <a:xfrm>
              <a:off x="1170612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1955960" y="21886560"/>
            <a:ext cx="348840" cy="965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96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10956960" y="21699360"/>
            <a:ext cx="833040" cy="1312560"/>
            <a:chOff x="10956960" y="21699360"/>
            <a:chExt cx="833040" cy="1312560"/>
          </a:xfrm>
        </p:grpSpPr>
        <p:sp>
          <p:nvSpPr>
            <p:cNvPr id="70" name=""/>
            <p:cNvSpPr/>
            <p:nvPr/>
          </p:nvSpPr>
          <p:spPr>
            <a:xfrm>
              <a:off x="109569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11206800" y="21886560"/>
            <a:ext cx="348840" cy="9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2068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10206000" y="21699360"/>
            <a:ext cx="833040" cy="1312560"/>
            <a:chOff x="10206000" y="21699360"/>
            <a:chExt cx="833040" cy="1312560"/>
          </a:xfrm>
        </p:grpSpPr>
        <p:sp>
          <p:nvSpPr>
            <p:cNvPr id="74" name=""/>
            <p:cNvSpPr/>
            <p:nvPr/>
          </p:nvSpPr>
          <p:spPr>
            <a:xfrm>
              <a:off x="102060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10455840" y="21886560"/>
            <a:ext cx="348840" cy="965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4558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9456840" y="21699360"/>
            <a:ext cx="833040" cy="1312560"/>
            <a:chOff x="9456840" y="21699360"/>
            <a:chExt cx="833040" cy="1312560"/>
          </a:xfrm>
        </p:grpSpPr>
        <p:sp>
          <p:nvSpPr>
            <p:cNvPr id="78" name=""/>
            <p:cNvSpPr/>
            <p:nvPr/>
          </p:nvSpPr>
          <p:spPr>
            <a:xfrm>
              <a:off x="945684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9706680" y="21886560"/>
            <a:ext cx="348840" cy="965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70668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14206680" y="23012280"/>
            <a:ext cx="3084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206680" y="24231600"/>
            <a:ext cx="30844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960960" y="20769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2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373360" y="23106240"/>
            <a:ext cx="125064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925680" y="23088600"/>
            <a:ext cx="1333440" cy="563040"/>
            <a:chOff x="15925680" y="23088600"/>
            <a:chExt cx="1333440" cy="563040"/>
          </a:xfrm>
        </p:grpSpPr>
        <p:sp>
          <p:nvSpPr>
            <p:cNvPr id="86" name=""/>
            <p:cNvSpPr/>
            <p:nvPr/>
          </p:nvSpPr>
          <p:spPr>
            <a:xfrm>
              <a:off x="15925680" y="23088600"/>
              <a:ext cx="133344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9560" y="23190120"/>
              <a:ext cx="10432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123880" y="21231360"/>
            <a:ext cx="324972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23920" y="2376324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206680" y="24793560"/>
            <a:ext cx="30844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0884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57760" y="21699360"/>
            <a:ext cx="833040" cy="1312560"/>
            <a:chOff x="16457760" y="21699360"/>
            <a:chExt cx="833040" cy="1312560"/>
          </a:xfrm>
        </p:grpSpPr>
        <p:sp>
          <p:nvSpPr>
            <p:cNvPr id="93" name=""/>
            <p:cNvSpPr/>
            <p:nvPr/>
          </p:nvSpPr>
          <p:spPr>
            <a:xfrm>
              <a:off x="164577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6707600" y="21886560"/>
            <a:ext cx="348840" cy="965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7076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5706800" y="21699360"/>
            <a:ext cx="833040" cy="1312560"/>
            <a:chOff x="15706800" y="21699360"/>
            <a:chExt cx="833040" cy="1312560"/>
          </a:xfrm>
        </p:grpSpPr>
        <p:sp>
          <p:nvSpPr>
            <p:cNvPr id="97" name=""/>
            <p:cNvSpPr/>
            <p:nvPr/>
          </p:nvSpPr>
          <p:spPr>
            <a:xfrm>
              <a:off x="157068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5956640" y="21886560"/>
            <a:ext cx="348840" cy="9651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9566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14957280" y="21699360"/>
            <a:ext cx="833400" cy="1312560"/>
            <a:chOff x="14957280" y="21699360"/>
            <a:chExt cx="833400" cy="1312560"/>
          </a:xfrm>
        </p:grpSpPr>
        <p:sp>
          <p:nvSpPr>
            <p:cNvPr id="101" name=""/>
            <p:cNvSpPr/>
            <p:nvPr/>
          </p:nvSpPr>
          <p:spPr>
            <a:xfrm>
              <a:off x="14957280" y="21699360"/>
              <a:ext cx="83340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15207120" y="21886560"/>
            <a:ext cx="348840" cy="965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52071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14206680" y="21699360"/>
            <a:ext cx="833040" cy="1312560"/>
            <a:chOff x="14206680" y="21699360"/>
            <a:chExt cx="833040" cy="1312560"/>
          </a:xfrm>
        </p:grpSpPr>
        <p:sp>
          <p:nvSpPr>
            <p:cNvPr id="105" name=""/>
            <p:cNvSpPr/>
            <p:nvPr/>
          </p:nvSpPr>
          <p:spPr>
            <a:xfrm>
              <a:off x="1420668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14456520" y="21886560"/>
            <a:ext cx="348840" cy="9651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4565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12165120" y="20602440"/>
            <a:ext cx="418320" cy="628560"/>
            <a:chOff x="12165120" y="20602440"/>
            <a:chExt cx="418320" cy="628560"/>
          </a:xfrm>
        </p:grpSpPr>
        <p:sp>
          <p:nvSpPr>
            <p:cNvPr id="109" name=""/>
            <p:cNvSpPr/>
            <p:nvPr/>
          </p:nvSpPr>
          <p:spPr>
            <a:xfrm>
              <a:off x="12372840" y="20855160"/>
              <a:ext cx="0" cy="375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65120" y="20602440"/>
              <a:ext cx="418320" cy="462240"/>
              <a:chOff x="12165120" y="20602440"/>
              <a:chExt cx="418320" cy="46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334320" y="20790360"/>
                <a:ext cx="83160" cy="93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51520" y="20696400"/>
                <a:ext cx="245520" cy="273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5120" y="20602440"/>
                <a:ext cx="418320" cy="462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4123880" y="20574000"/>
            <a:ext cx="418320" cy="626760"/>
            <a:chOff x="14123880" y="20574000"/>
            <a:chExt cx="418320" cy="626760"/>
          </a:xfrm>
        </p:grpSpPr>
        <p:sp>
          <p:nvSpPr>
            <p:cNvPr id="115" name=""/>
            <p:cNvSpPr/>
            <p:nvPr/>
          </p:nvSpPr>
          <p:spPr>
            <a:xfrm>
              <a:off x="14331600" y="20826000"/>
              <a:ext cx="0" cy="37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4123880" y="20574000"/>
              <a:ext cx="418320" cy="460800"/>
              <a:chOff x="14123880" y="20574000"/>
              <a:chExt cx="418320" cy="460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4293080" y="20761200"/>
                <a:ext cx="8316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210280" y="20667600"/>
                <a:ext cx="245520" cy="273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123880" y="20574000"/>
                <a:ext cx="418320" cy="4608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2623760" y="20573640"/>
            <a:ext cx="1415880" cy="187200"/>
            <a:chOff x="12623760" y="20573640"/>
            <a:chExt cx="1415880" cy="187200"/>
          </a:xfrm>
        </p:grpSpPr>
        <p:sp>
          <p:nvSpPr>
            <p:cNvPr id="121" name=""/>
            <p:cNvSpPr/>
            <p:nvPr/>
          </p:nvSpPr>
          <p:spPr>
            <a:xfrm flipV="1">
              <a:off x="12623760" y="20573640"/>
              <a:ext cx="33264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3290120" y="20573640"/>
              <a:ext cx="4161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0628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706200" y="21605760"/>
            <a:ext cx="1333800" cy="18756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96"/>
                </a:moveTo>
                <a:cubicBezTo>
                  <a:pt x="144" y="48"/>
                  <a:pt x="288" y="0"/>
                  <a:pt x="432" y="0"/>
                </a:cubicBezTo>
                <a:cubicBezTo>
                  <a:pt x="576" y="0"/>
                  <a:pt x="720" y="48"/>
                  <a:pt x="86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14640" y="2165184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956840" y="225439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57200" y="22543920"/>
            <a:ext cx="0" cy="8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2372480" y="233870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7120" y="22731480"/>
            <a:ext cx="9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mo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0421720"/>
            <a:ext cx="8610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bile agent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ve and clone across no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be dynamically injec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ifies develop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igh-level agent abstr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xt discove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-hop geographic greedy rou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0200" y="15011280"/>
            <a:ext cx="1120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lead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keeps track of member locations and distributes group broadcast messa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registry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eeps track of leader lo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3880" y="18013320"/>
            <a:ext cx="11354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upported Oper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040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78520" y="21869280"/>
            <a:ext cx="66294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lt;“mbr”, enumerator, agent id, location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numerator: iterative access for broadca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gent id: random access for member location updat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55640" y="247698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79920" y="9725040"/>
            <a:ext cx="70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user moves, it “drags” its member to its new location.  Member updates its new location with leader when it is dragged.  User injects a new member if it fails to drag its old memb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754480" y="20650320"/>
            <a:ext cx="6705720" cy="93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eader Tuplespac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67680" y="4800600"/>
          <a:ext cx="19812240" cy="14814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67680" y="4800600"/>
                    <a:ext cx="19812240" cy="14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5:07:15Z</dcterms:created>
  <dc:creator>Liang</dc:creator>
  <dc:description/>
  <dc:language>en-US</dc:language>
  <cp:lastModifiedBy>Office 2004 Test Drive User</cp:lastModifiedBy>
  <dcterms:modified xsi:type="dcterms:W3CDTF">2007-04-25T22:55:18Z</dcterms:modified>
  <cp:revision>74</cp:revision>
  <dc:subject/>
  <dc:title>Slide 1</dc:title>
</cp:coreProperties>
</file>